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C7D-8FFF-47A8-A6F8-A32D97A0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D95-D501-4AF9-BD64-7128377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937-78F0-49BF-9494-5219C108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F1F-1AAF-4D7A-A0DF-6FD11B50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9F79-FC8A-4B95-8FB1-09C55B4B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2656-C0B6-4F69-B184-D6756480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62AB-F471-4172-AFD7-E7659BA9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67ED-C8D0-4C75-B704-9A9757BD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BAA7-96DA-4F2B-8C89-8CDAEB1B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D8E-249A-4EF9-B1B0-C6BCBCDB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A72D-58AE-4AEF-B5FF-54B70108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6B3-D647-4B87-B2FE-043B36A0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09D8-5892-4E35-8470-EA9213B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4C8B-5225-4DA2-892C-97D782F4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05E4-9A32-42E1-A807-ADB57A9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57CB-945E-4961-8E6A-6994D2D0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9381-CAEB-4286-BCFE-7C3C41CF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C36-3E17-4E6A-AA48-8927189E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BA8-26E1-4A88-918F-F6E96771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C6E-1453-4729-9F23-8963C31B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D13-9156-4C05-BF8B-FAA6C61B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1F0-D3DC-4BE5-9739-1134B1DE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205-2A3D-42A7-8BEC-454EB237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E5C-D847-4418-8424-1C9C3EA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25D8-3EB3-404F-92A9-94C7086B8A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540-21EE-4469-959D-BD65700971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133640"/>
            <a:ext cx="76197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0:08:15Z</dcterms:created>
  <dc:creator>Student</dc:creator>
  <dc:description/>
  <dc:language>en-US</dc:language>
  <cp:lastModifiedBy>Student</cp:lastModifiedBy>
  <dcterms:modified xsi:type="dcterms:W3CDTF">2012-07-12T01:12:16Z</dcterms:modified>
  <cp:revision>2</cp:revision>
  <dc:subject/>
  <dc:title>Slide 1</dc:title>
</cp:coreProperties>
</file>